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7BB5-9E07-433E-857A-BD5D624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BF3A-88CB-41CF-8F7C-68AFD9B4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F959-4232-41F5-AB99-0612F6E0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297F-C5ED-4F87-B993-D9E3C05B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0D20-A85E-4458-B49E-F55B19C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EFF-517A-4115-9785-6A86273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B6A-5034-44D5-BEEA-EB76217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A6CA-C2F8-40F4-88A3-A51B6C0D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71EC-D56D-4EAE-B513-EF9CC17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E3E0-5099-41BE-AE3D-E12862B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56D-86A7-4D8F-BBDD-4CC7A34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3A28-26C5-4041-BF5C-165C443B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F210-177B-4C79-97AC-1788FCBB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7A04-8896-4EC3-82F6-CD17790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7FAD-0005-404D-ABCD-24C85E0D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7018-A353-471D-966C-093991E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420-0698-4609-86FB-90668600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425-AF04-4E91-A449-B25F1882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5FCA-C179-4526-88A0-52D89D5E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D3AC-8FED-48B2-9DB2-8AD54E37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327B-5DA1-4EF7-8095-3B7EA3E5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E556-8541-4161-B676-D13453B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958E-69D6-43D2-8003-1E58B76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BF79-BFF3-4D99-ACBF-A378F0B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225-B07D-45D3-8FA7-BC85A5B810E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9710-A573-438C-9D65-EA5208C3ADF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JECT: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“ENTERTAINING MATH”</a:t>
            </a:r>
            <a:br>
              <a:rPr sz="2400"/>
            </a:br>
            <a:br>
              <a:rPr sz="24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FANT SCHOOL 1° DIDATTIC CIRCL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RAPAN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RIGENTE SCOLASTICO: DOTT. SSA ANNA MARIA CAMP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UNZIONE STRUMENTAL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ECNOLOGIA ED INNOVAZIONE INS.: PIETRO CAMPO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INSEGNANTE : FRANCESCA MINAUDO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LI ALIMENTI E LA MA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LOGRANO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TERO – META’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HOLE - MID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pen drive 3 073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LOGRANO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VISION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VISION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TERO – META’ – QUATTRO QUARTI – OTTO QUAR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pen drive 3 067"/>
          <p:cNvPicPr/>
          <p:nvPr/>
        </p:nvPicPr>
        <p:blipFill>
          <a:blip r:embed="rId1"/>
          <a:stretch/>
        </p:blipFill>
        <p:spPr>
          <a:xfrm>
            <a:off x="207000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pen drive 3 078"/>
          <p:cNvPicPr/>
          <p:nvPr/>
        </p:nvPicPr>
        <p:blipFill>
          <a:blip r:embed="rId2"/>
          <a:stretch/>
        </p:blipFill>
        <p:spPr>
          <a:xfrm>
            <a:off x="207000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pen drive 3 079"/>
          <p:cNvPicPr/>
          <p:nvPr/>
        </p:nvPicPr>
        <p:blipFill>
          <a:blip r:embed="rId3"/>
          <a:stretch/>
        </p:blipFill>
        <p:spPr>
          <a:xfrm>
            <a:off x="5257800" y="27525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NDE – MEDIO – PICCOL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G – MEDIUM - LITT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pen drive 3 074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NDE – PICCOL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G - LIT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pen drive 3 053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LIDO – LIQUID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LID - FLU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pen drive 3 075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41:42Z</dcterms:created>
  <dc:creator>.</dc:creator>
  <dc:description/>
  <dc:language>en-US</dc:language>
  <cp:lastModifiedBy>Disanska</cp:lastModifiedBy>
  <dcterms:modified xsi:type="dcterms:W3CDTF">2011-12-30T17:05:40Z</dcterms:modified>
  <cp:revision>9</cp:revision>
  <dc:subject/>
  <dc:title>Progetto matematica</dc:title>
</cp:coreProperties>
</file>